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6.jpeg" ContentType="image/jpeg"/>
  <Override PartName="/ppt/media/image23.wmf" ContentType="image/x-wmf"/>
  <Override PartName="/ppt/media/image22.wmf" ContentType="image/x-wmf"/>
  <Override PartName="/ppt/media/image20.gif" ContentType="image/gif"/>
  <Override PartName="/ppt/media/image21.wmf" ContentType="image/x-wmf"/>
  <Override PartName="/ppt/media/image18.jpeg" ContentType="image/jpeg"/>
  <Override PartName="/ppt/media/image24.wmf" ContentType="image/x-wmf"/>
  <Override PartName="/ppt/media/image1.wmf" ContentType="image/x-wmf"/>
  <Override PartName="/ppt/media/image5.gif" ContentType="image/gif"/>
  <Override PartName="/ppt/media/image28.png" ContentType="image/png"/>
  <Override PartName="/ppt/media/image2.wmf" ContentType="image/x-wmf"/>
  <Override PartName="/ppt/media/image32.wmf" ContentType="image/x-wmf"/>
  <Override PartName="/ppt/media/image14.wmf" ContentType="image/x-wmf"/>
  <Override PartName="/ppt/media/image35.jpeg" ContentType="image/jpeg"/>
  <Override PartName="/ppt/media/image13.wmf" ContentType="image/x-wmf"/>
  <Override PartName="/ppt/media/image30.png" ContentType="image/png"/>
  <Override PartName="/ppt/media/image37.jpeg" ContentType="image/jpeg"/>
  <Override PartName="/ppt/media/image8.wmf" ContentType="image/x-wmf"/>
  <Override PartName="/ppt/media/image34.wmf" ContentType="image/x-wmf"/>
  <Override PartName="/ppt/media/image9.wmf" ContentType="image/x-wmf"/>
  <Override PartName="/ppt/media/image36.jpeg" ContentType="image/jpeg"/>
  <Override PartName="/ppt/media/image38.png" ContentType="image/png"/>
  <Override PartName="/ppt/media/image39.jpeg" ContentType="image/jpeg"/>
  <Override PartName="/ppt/media/image41.gif" ContentType="image/gif"/>
  <Override PartName="/ppt/media/image44.png" ContentType="image/png"/>
  <Override PartName="/ppt/media/image40.wmf" ContentType="image/x-wmf"/>
  <Override PartName="/ppt/media/image31.png" ContentType="image/png"/>
  <Override PartName="/ppt/media/image42.wmf" ContentType="image/x-wmf"/>
  <Override PartName="/ppt/media/image43.wmf" ContentType="image/x-wmf"/>
  <Override PartName="/ppt/media/image10.wmf" ContentType="image/x-wmf"/>
  <Override PartName="/ppt/media/image25.jpeg" ContentType="image/jpeg"/>
  <Override PartName="/ppt/media/image16.wmf" ContentType="image/x-wmf"/>
  <Override PartName="/ppt/media/image12.wmf" ContentType="image/x-wmf"/>
  <Override PartName="/ppt/media/image7.wmf" ContentType="image/x-wmf"/>
  <Override PartName="/ppt/media/image27.png" ContentType="image/png"/>
  <Override PartName="/ppt/media/image4.gif" ContentType="image/gif"/>
  <Override PartName="/ppt/media/image15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3.gif" ContentType="image/gif"/>
  <Override PartName="/ppt/media/image3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CF5B-135D-45D7-90A9-AEB76A7E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2560-C02C-4FBE-8379-0D098FE4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6015-9CD7-4DF8-BF4E-67EB2610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133-43D4-4CC2-8E1B-D42BFDE5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F185-611B-4192-A595-F34ED88E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7CF-F6C2-41E7-94EB-C8958951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702-8FC5-473B-B8AD-5978DC7E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85B-F92D-47BC-925F-FDF8CAA2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761-0FC7-49AB-9B2C-45C94060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1FC-3892-4220-B509-2F404134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D4D-2BC2-4DE4-B3BF-87EED4D7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3A45-D5C9-4346-850F-524243F4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DC18-44D5-4B0A-A07D-D1C95FCD7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6.wm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 u="sng">
                <a:solidFill>
                  <a:srgbClr val="000000"/>
                </a:solidFill>
                <a:uFillTx/>
                <a:latin typeface="Showcard Gothic"/>
              </a:rPr>
              <a:t>The Sens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35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ind the lens is a chamber filled with vitreous humor (a transparent, jelly-like fl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focused on re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receptors foun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s light to nerve impulses which are then carried to the C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1066680" cy="1027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855720" cy="1062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286000" y="5334120"/>
            <a:ext cx="1189080" cy="1295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505320" y="5943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791320" y="5029200"/>
            <a:ext cx="16668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photoreceptors found on the reti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ensitive to light but not to 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sensitive to light but responds to light of different colors, producing color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629400" y="16002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72200" y="4495680"/>
            <a:ext cx="257976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es are concentrated in the fov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vea = site of sharpest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ind spot is a spot on the retina where no photoreceptors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nd spot = where optic nerve passes through back of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40194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25720" y="1409760"/>
            <a:ext cx="4908600" cy="425592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938520" y="1193760"/>
            <a:ext cx="7216200" cy="4721400"/>
            <a:chOff x="938520" y="1193760"/>
            <a:chExt cx="7216200" cy="4721400"/>
          </a:xfrm>
        </p:grpSpPr>
        <p:sp>
          <p:nvSpPr>
            <p:cNvPr id="97" name=""/>
            <p:cNvSpPr/>
            <p:nvPr/>
          </p:nvSpPr>
          <p:spPr>
            <a:xfrm>
              <a:off x="2831400" y="5638680"/>
              <a:ext cx="71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oro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34960" y="495288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38520" y="449568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lood vess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30040" y="3594240"/>
              <a:ext cx="96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tic ner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86080" y="2502000"/>
              <a:ext cx="60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v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32480" y="1193760"/>
              <a:ext cx="121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treous hum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91480" y="5638680"/>
              <a:ext cx="61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le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95080" y="4775040"/>
              <a:ext cx="88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ga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97960" y="396252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r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96160" y="346716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p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82840" y="3060720"/>
              <a:ext cx="68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rn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93640" y="2641680"/>
              <a:ext cx="126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queous hum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96160" y="2273400"/>
              <a:ext cx="5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9240" y="183348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usc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838080" y="76212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5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35-14 The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tree falls in the woods and no one is there to hear, does it make a soun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81280" y="3124080"/>
            <a:ext cx="27432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77880" y="1484280"/>
            <a:ext cx="5896080" cy="423072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555480" y="1109520"/>
            <a:ext cx="7753680" cy="4315320"/>
            <a:chOff x="555480" y="1109520"/>
            <a:chExt cx="7753680" cy="4315320"/>
          </a:xfrm>
        </p:grpSpPr>
        <p:sp>
          <p:nvSpPr>
            <p:cNvPr id="118" name=""/>
            <p:cNvSpPr/>
            <p:nvPr/>
          </p:nvSpPr>
          <p:spPr>
            <a:xfrm>
              <a:off x="555480" y="4729320"/>
              <a:ext cx="140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tory ca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22720" y="5072040"/>
              <a:ext cx="94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ympan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15120" y="514836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nd wind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29720" y="5148360"/>
              <a:ext cx="127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ustachian tu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13120" y="4233960"/>
              <a:ext cx="53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35080" y="3243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chl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20960" y="2023920"/>
              <a:ext cx="121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chlear ner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78320" y="1566720"/>
              <a:ext cx="150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micircular can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70280" y="110952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val wind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90120" y="1414440"/>
              <a:ext cx="63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irr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32560" y="144468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v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23800" y="1596960"/>
              <a:ext cx="76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m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838080" y="76212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5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35-15 The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is vibrations in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r distinguishes the pitch and loudness of the vib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brations enter the ear through the auditory ca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vibrations hit the tympanum (eardru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3986280"/>
            <a:ext cx="4343400" cy="2871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638680" y="4419720"/>
            <a:ext cx="20131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brations picked up by the tympanum are transferred to three b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mmer, anvil, stirr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the smallest bones in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irrup transmits the vibrations to the oval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oval window vibrates, it creates pressure waves in the cochl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1038240" cy="998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343400" y="2971800"/>
            <a:ext cx="906480" cy="792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172200" y="2286000"/>
            <a:ext cx="1027080" cy="1541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629400" y="4724280"/>
            <a:ext cx="2114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chl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chlea is fluid-filled and lined with tiny h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sure waves produced by the oval window push the hairs back and f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hair movement produces a nerve impulse that is transmitted through the cochlear nerve to the C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40384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906768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ory Rece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y recep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to specific stimu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i include light, sound, motion, chemicals, pressure, and changes in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4724280"/>
            <a:ext cx="131580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62520" y="4495680"/>
            <a:ext cx="1630080" cy="2025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715000" y="4876920"/>
            <a:ext cx="1676520" cy="1409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828800" y="4800600"/>
            <a:ext cx="1849320" cy="1833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315200" y="4970520"/>
            <a:ext cx="14032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ircular canals, and two tiny sacs behind them, monitor the position of your body, especially your head, in relation to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anal and sac is filled with fluid and 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your head changes position, the fluid moves causing the hair to b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NS receives a nerve impulse to determine body motion and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ell and Ta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nses of smell and taste are a result of chemoreceptors sending nerve impulses in response to chemicals in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el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ility of chemoreceptors lining the nasal passageway to respond to chemi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taste buds to detect chemi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te buds are broken into categories: salty, bitter, sweet, and s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ngue’s sensitivity to each varies by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1828800" cy="1455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8906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unique sense in that the nerves are not found in one particular region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gions of skin are sensitive to to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sponds to temperature, pressure, and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body parts have different concentrations of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ouch receptors found on fingers, toes, and 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600" y="5257800"/>
            <a:ext cx="3689280" cy="1271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191120" y="5334120"/>
            <a:ext cx="1938240" cy="1357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553080" y="5303880"/>
            <a:ext cx="21574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74920" y="1150920"/>
            <a:ext cx="6710400" cy="449568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684720" y="977760"/>
            <a:ext cx="5395320" cy="4637520"/>
            <a:chOff x="684720" y="977760"/>
            <a:chExt cx="5395320" cy="4637520"/>
          </a:xfrm>
        </p:grpSpPr>
        <p:sp>
          <p:nvSpPr>
            <p:cNvPr id="162" name=""/>
            <p:cNvSpPr/>
            <p:nvPr/>
          </p:nvSpPr>
          <p:spPr>
            <a:xfrm>
              <a:off x="684720" y="2146320"/>
              <a:ext cx="122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ebral cort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6560" y="307332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sal cav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88680" y="3637080"/>
              <a:ext cx="86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ste bu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03400" y="3162240"/>
              <a:ext cx="1285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mel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sory a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54480" y="1384200"/>
              <a:ext cx="858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s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sory ar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92640" y="2019240"/>
              <a:ext cx="85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14720" y="977760"/>
              <a:ext cx="968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lfac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mell) bul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93280" y="1650960"/>
              <a:ext cx="792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lfac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r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89520" y="2590920"/>
              <a:ext cx="871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mell recep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15080" y="3645000"/>
              <a:ext cx="695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ste p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02120" y="4165560"/>
              <a:ext cx="87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ste recep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02120" y="5156280"/>
              <a:ext cx="117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s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rve fib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838080" y="76212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5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Senses of Smell and T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ory Rece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nsory receptor reacts to a specific stimulus by sending impulses to other neurons, and eventually to the central nervous system (C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ensory receptors are found in sense 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eyes, inner ear, nose, mouth, and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5257800"/>
            <a:ext cx="144612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0" y="5105520"/>
            <a:ext cx="89532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505320" y="5029200"/>
            <a:ext cx="1436400" cy="1447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181480" y="5410080"/>
            <a:ext cx="1589040" cy="722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7010280" y="4923000"/>
            <a:ext cx="175284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of Sensory Recep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ive major categories of sensory recep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ain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rmo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mechano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hemorecep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photo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91320" y="2743200"/>
            <a:ext cx="28335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of Sensory Recep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 all over the body EXCEPT in the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d to chemicals released by damaged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d in the skin, body core, and hypothala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 variations in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o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 in the skin, skeletal muscles, and inner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e to touch, pressure, stretching of muscles, sound, and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315200" y="1371600"/>
            <a:ext cx="1428840" cy="1563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792920" y="3200400"/>
            <a:ext cx="1351080" cy="1447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952880" y="5781600"/>
            <a:ext cx="31244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egories of Sensory Recep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o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the nose and taste b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e to chemicals in the extern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in the 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e t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666880" y="2895480"/>
            <a:ext cx="1219320" cy="1163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319040" cy="1144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0" y="4343400"/>
            <a:ext cx="144612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200400" y="5637240"/>
            <a:ext cx="183204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0773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enters through the cornea (a tough transparent layer of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a helps focus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passes through a chamber filled with a liquid called aqueous h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back of the chamber is the i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is is the colored part of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562720" y="5181480"/>
            <a:ext cx="2133360" cy="1422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724280" y="58672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iddle of the iris is the pupil (small ope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es the amount of light that enters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ind the iris is the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shape to help adjust the eye’s focus to see near or distant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ed by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934320" y="4780080"/>
            <a:ext cx="1981080" cy="1744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1981080" cy="1320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V="1">
            <a:off x="6400800" y="91404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6:57:08Z</dcterms:created>
  <dc:creator>bpalme</dc:creator>
  <dc:description/>
  <dc:language>en-US</dc:language>
  <cp:lastModifiedBy>Preferred Customer</cp:lastModifiedBy>
  <dcterms:modified xsi:type="dcterms:W3CDTF">2009-12-03T01:40:13Z</dcterms:modified>
  <cp:revision>6</cp:revision>
  <dc:subject/>
  <dc:title>The Senses</dc:title>
</cp:coreProperties>
</file>